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_____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5880" y="1892160"/>
            <a:ext cx="49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600" y="6434280"/>
            <a:ext cx="889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B                                                                                                        18                                                                                                            Dec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8440" y="216000"/>
            <a:ext cx="851940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 FUND CONTROL RECORD                                                      UNIT/ACTIVITY  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8240" y="6434280"/>
            <a:ext cx="893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B                                                                                                        19                                                                                                             Dec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5200" y="216000"/>
            <a:ext cx="862452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 FUND CONTROL RECORD                                                      UNIT/ACTIVITY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600" y="6434280"/>
            <a:ext cx="882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B                                                                                                       20                                                                                                           Dec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5560" y="216000"/>
            <a:ext cx="855432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 FUND CONTROL RECORD                                                      UNIT/ACTIVITY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600" y="6434280"/>
            <a:ext cx="886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B                                                                                                      21                                                                                                             Dec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00" y="216000"/>
            <a:ext cx="862452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 FUND CONTROL RECORD                                                      UNIT/ACTIVITY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" y="6434280"/>
            <a:ext cx="882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B                                                                                                       22                                                                                                           Dec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5560" y="216000"/>
            <a:ext cx="858924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                                                                   FUND CONTROL RECORD                                                      UNIT/ACTIVITY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8600" y="6434280"/>
            <a:ext cx="882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 1415 AB                                                                                                       23                                                                                                           Dec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7T10:25:24Z</dcterms:created>
  <dc:creator>Soldier Support Institute</dc:creator>
  <dc:description/>
  <dc:language>en-US</dc:language>
  <cp:lastModifiedBy>Administrator</cp:lastModifiedBy>
  <cp:lastPrinted>2000-01-24T18:42:45Z</cp:lastPrinted>
  <dcterms:modified xsi:type="dcterms:W3CDTF">2004-12-15T20:59:43Z</dcterms:modified>
  <cp:revision>17</cp:revision>
  <dc:subject/>
  <dc:title>PE COVER SHEET</dc:title>
</cp:coreProperties>
</file>